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E896-B90E-4D2A-94E0-715ECE43C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flas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pre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rel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n effective mechanism for moving a lot of information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cus of our group is providing the database… not the inter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Billion rows of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years worth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#2 under AQ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“owners” maintain thei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s can be performed any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undergoes a screening process before it is allowed into the system (data integrity &amp; statistical anomal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Registration is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C2A-E068-4E9C-989D-A2BAF363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F4A-3D8E-45A3-A9C8-1D862B82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C0D-A76C-4DB6-A4A9-A789BE23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C50-06A0-4B04-B001-90F6A20E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5413-61A4-4C18-9F89-26BB209A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304F-45A5-4005-81DF-E5A4EC2C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9B4A-73FF-4550-A1AF-D592BD91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1695-2913-493B-BA1A-2E381BAD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2F84-4D3C-4BDF-BB42-43838E76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3707-3A31-43D6-8472-26185A18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F3AA-E635-454B-9C95-DC20DD76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4533-5496-4D02-B448-8E34DD83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632C-0002-4A50-8511-BDD74B5E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E263-65DF-4AA2-AA51-144ABDEC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0599-382B-40E1-ABF7-CE694C8D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B176-DC07-4694-B343-DBC1EFC2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1D14-D0FF-4EB5-99C9-42661969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8AC-E6A3-423B-B150-95A7CD12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DAF-453A-42B3-9EC2-CD6109DE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99D-013C-409E-B988-C76343E3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FEC-AE79-4743-AA5D-B686AB8D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6C4-3854-4FA9-8C15-68D2A300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835-56F1-4339-9D48-3A4FD0EC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979-EEE3-4C93-92E7-11535DB9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4ABD-6291-4F36-8ECE-2E98AA9CBE5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068F-7411-4FAD-AE03-894311FEFA8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QS Overview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nathan Mil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AQPS – National Air Data Gro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Imag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677520" y="1905120"/>
            <a:ext cx="408924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9 -0.02454 C 0.0698 -0.03518 0.01823 0.08079 0.01337 0.08079 C -0.09826 0.08843 -0.39479 0.02477 -0.53194 0.02361 C -0.60954 0.01968 -0.72048 0.0706 -0.75746 0.07477 C -0.75746 0.05347 -0.78489 0.04838 -0.78888 0.04838 C -0.79288 0.04838 -0.81215 0.05139 -0.81215 0.07153 C -0.81215 0.06088 -0.81371 0.05602 -0.81562 0.05602 C -0.81666 0.05602 -0.82256 0.06412 -0.82256 0.07477 C -0.82256 0.06945 -0.83454 0.0625 -0.83559 0.0625 C -0.83559 0.06111 -0.83767 0.06783 -0.83767 0.07315 C -0.83767 0.07037 -0.83767 0.06783 -0.83871 0.06783 C -0.83871 0.06921 -0.83975 0.0706 -0.83975 0.07315 C -0.83975 0.07176 -0.83975 0.07037 -0.83975 0.06921 C -0.8401 0.06852 -0.84131 0.06875 -0.84184 0.06921 C -0.84288 0.06921 -0.84288 0.0706 -0.84288 0.07199 E">
                                      <p:cBhvr>
                                        <p:cTn id="6" dur="5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Data Avail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mbient Air Quality 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d Aver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ed 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cision &amp; B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te and Monitor Meta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Q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QS DataMa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AQ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igned for S/L/T to Enter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formation Updated Continuous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ailed Data 1993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st Register to 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5 Reports Availa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50,000 Reports / Y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Hoc Queries Available Through Oracle Discoverer (~15,000 Queries / Yea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QS DataM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igned for Researchers / Academia Que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d from AQS Nightly (5x/week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ailed Data 1980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 an Exchange Network Node Accou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 Web Services Availa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07:  5B Records Queri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Datastore for Other Applications (AirCompare &amp; RSI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1981440" cy="4038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520" y="457200"/>
            <a:ext cx="4647960" cy="1676520"/>
          </a:xfrm>
          <a:prstGeom prst="wedgeRoundRectCallout">
            <a:avLst>
              <a:gd name="adj1" fmla="val 50101"/>
              <a:gd name="adj2" fmla="val 73009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don’t know much about data management, but I know what I hat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1600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I don’t hate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5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5:59:05Z</dcterms:created>
  <dc:creator>jmille09</dc:creator>
  <dc:description/>
  <dc:language>en-US</dc:language>
  <cp:lastModifiedBy>Administrator</cp:lastModifiedBy>
  <dcterms:modified xsi:type="dcterms:W3CDTF">2008-02-27T16:25:41Z</dcterms:modified>
  <cp:revision>7</cp:revision>
  <dc:subject/>
  <dc:title>AQS Overview</dc:title>
</cp:coreProperties>
</file>